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320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5A6D-835B-4937-873A-5D5383035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04CD-52EA-48E9-AF59-3EE9AA1D3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BEF1-61D0-4EA7-A1EC-2CF9B55B6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A9CA-CA46-4031-B323-F99485AE8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E82A-FB07-445E-920A-18A61454A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F73B-2C67-4CB7-9BA9-EBF00ED89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523C-325C-400C-8DEF-2EF702890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F465-FF83-47AE-B137-F8261B86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717-ABE6-4479-8F0E-E178EF0F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FB44-6588-4DD9-934A-B6FB83E5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CA9-51C4-4388-A380-2E315006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9538-3433-46B5-AF6D-388B7215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FF35-302B-46FB-A263-4BE68410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40D6-0D96-4F94-8F83-5F974299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6251-E32F-422A-9026-0C377138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3FB7-A62F-433D-B2AC-74F868E1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83C1-31DE-4B65-9EED-950463D2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DE22-B6EC-45B7-AED1-FC765D7C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ADB-6842-4158-A1D0-F7EB3FE6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5162-4F74-4699-8BC6-0E9AF60A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C7E7-2C70-4444-A431-1D3A28AF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13A2-07D7-496E-A742-6C1CB2F6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C693-2014-4B33-A63C-E9DDB0C6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2D94-3743-4501-A237-DB098EE2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0CE6E-3A77-4773-B22E-E6960BCF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1E519-F523-408E-8A65-5B6EB215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6F42D-B698-4593-A167-E305EC87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69F0A-D7D7-4561-A97B-66A7533B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AF610-1806-4188-99AA-15A4913E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869E-5AA1-4F7B-BF67-8F244838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12F31-771D-4712-BCD4-4AE66F47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C7100-1B72-4F75-A1BC-7FA65B88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233C2-0919-49EE-8675-3EEE0BE2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65C04-9AAA-4495-9996-F8389404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C8B47-9AC4-4971-A6AC-DFB5EC01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68437-4EC9-4A3D-9341-EBF705B3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C2BAA-D95B-45D7-9FEE-14BCD40C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1E9A7-B050-4237-87C8-57B7F65F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A38EF-6A6E-4798-8FD8-A89A952C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5CF72-CAD3-4D1C-86C4-16847C5E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AD5-8CE6-42E3-A63A-F554E537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CB1BC-D0E6-4648-BCD6-5A872C1A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9D590-003E-40B7-9050-A04FB44C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D9A50-C9E7-4106-A161-48562607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4650A-5775-4FC5-9F60-D2A5B50B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96885-E05A-4576-BFAA-D9D7651C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E23DA-F172-4AD8-ACFE-4EF999B3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4E023-F152-4D1B-9CD1-6812C143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0F056-C3CB-48A0-8415-94EAC0F4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DF56B-A33E-4A09-A25D-857A5D71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B35D44-4B2F-430B-B5D3-170FECD2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57D-165A-4D83-9DD7-C9C72EB3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52D00C-30E2-4321-B67B-07EADEFA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A119A2-56A1-415A-9B82-C0C2B41F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A2B8E9-2B8D-46DD-8575-ABD99B94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F699EB-5D5C-4C6F-81CA-2E074905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8FAD85-2248-4F43-A869-702E43A3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C7C2F9-1A63-4A01-BE47-1CAD68E1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3E839E-0796-4671-BFF1-A0CD5304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98FD5F-65E6-4194-B912-42671E8F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A9F38-1BAD-40A0-A120-0B1E9D05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B36CB-9CAF-42C6-8C62-50A3157D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D0F-C139-4A3F-BBC6-21E5BED6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0A8497-8481-4B3B-A90B-407DED12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DA35BE-A457-4537-BE9A-222C5ACC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B3D7C8-3D1D-4F7A-83DC-5B4414F8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3E7A26-5298-48C6-8A8A-B0FAD088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C8061-5CC0-45A5-8134-5BAEB269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2E7FFF-DF76-4060-A35C-3A0959AB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559DD8-C188-4D27-9111-2EB3D23C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82DA4B-13AF-4891-8C55-1819DC5C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6BC956-F963-4A55-B50E-6F863E45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AE22D6-9826-4487-BD7A-A12F7081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264-3AF2-476F-BC28-6BD6AA37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321E4F-5205-49D3-8E1B-A40C9926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764BA8-2EE7-427D-AC9F-7CADE4BC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E2A5A8-2EF1-4738-9959-C54C9428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3CEE92-02A6-42D0-9946-35B27114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40233A-1386-4AF1-832E-45937C69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F8C736-5A60-4805-8E90-D971A8C6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008FEE-EA39-459D-B9F8-35775B3C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C29126-AECC-41A4-A463-15A81665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B995AA-4A17-4EB2-8A24-8D81A7F5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27A0BF-D8D5-4766-8DAE-0FFB66B4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0B9-02E9-48B5-8E8F-1D1F4FAC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55F06E-A0B9-4122-A060-CBFC084B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F46DD1-50A3-4878-BC54-06904FEA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DD3141-3049-4A28-9636-F2531631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25E08C-9EEB-4C13-B446-1C001021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E6D66C-1C0A-44BB-9EDD-B68557C1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5B7-EA6A-468D-A126-D44F7C8E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07E1-920F-42A1-A693-71A9E8933D1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A06A-E20B-4428-BFFC-A1BF27CF02E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3C73-0DFE-4BE9-8538-72208A81001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AF0E-16DD-4B1E-87EE-0BF661E8BB9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E82A-84EB-4251-904F-86C6AC2D871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3ED4-7016-4F1A-9EC4-2F60D5D0E13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3C56-2F64-4F7F-9392-5984F2DBE3B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75f6d"/>
                </a:solidFill>
                <a:latin typeface="Century Schoolbook"/>
              </a:rPr>
              <a:t>QUIZ #5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ENGLISH 201 Summer 2011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Prof. Everson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980720" y="12952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39d"/>
                </a:solidFill>
                <a:latin typeface="Century Schoolbook"/>
              </a:rPr>
              <a:t>Put your name at top, today’s date, June 15, 2011 and Quiz #5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1" name="Title 1"/>
          <p:cNvSpPr/>
          <p:nvPr/>
        </p:nvSpPr>
        <p:spPr>
          <a:xfrm>
            <a:off x="2666880" y="380880"/>
            <a:ext cx="6477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39d"/>
                </a:solidFill>
                <a:latin typeface="Century Schoolbook"/>
              </a:rPr>
              <a:t>WORK INDIVIDU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Placeholder 2"/>
          <p:cNvSpPr/>
          <p:nvPr/>
        </p:nvSpPr>
        <p:spPr>
          <a:xfrm>
            <a:off x="2514600" y="2438280"/>
            <a:ext cx="3581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Do not copy the sent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Write the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You will have 10 minutes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Good luc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C:\Users\jose\AppData\Local\Microsoft\Windows\Temporary Internet Files\Content.IE5\6X679QE1\MC900413460[1].wmf"/>
          <p:cNvPicPr/>
          <p:nvPr/>
        </p:nvPicPr>
        <p:blipFill>
          <a:blip r:embed="rId1"/>
          <a:stretch/>
        </p:blipFill>
        <p:spPr>
          <a:xfrm>
            <a:off x="6477120" y="1143000"/>
            <a:ext cx="1904760" cy="20210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4" descr="vocabulary.png"/>
          <p:cNvPicPr/>
          <p:nvPr/>
        </p:nvPicPr>
        <p:blipFill>
          <a:blip r:embed="rId2"/>
          <a:stretch/>
        </p:blipFill>
        <p:spPr>
          <a:xfrm>
            <a:off x="6629400" y="3809880"/>
            <a:ext cx="1965240" cy="2595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C:\Users\jose\AppData\Local\Microsoft\Windows\Temporary Internet Files\Content.IE5\QAUPEWIM\MC900434665[1].wmf"/>
          <p:cNvPicPr/>
          <p:nvPr/>
        </p:nvPicPr>
        <p:blipFill>
          <a:blip r:embed="rId3"/>
          <a:stretch/>
        </p:blipFill>
        <p:spPr>
          <a:xfrm>
            <a:off x="1752480" y="457200"/>
            <a:ext cx="8384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9"/>
          <p:cNvSpPr/>
          <p:nvPr/>
        </p:nvSpPr>
        <p:spPr>
          <a:xfrm>
            <a:off x="0" y="133200"/>
            <a:ext cx="9144000" cy="699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tight      climax     </a:t>
            </a:r>
            <a:r>
              <a:rPr b="1" i="1" lang="en-US" sz="2400" spc="-1" strike="noStrike">
                <a:solidFill>
                  <a:srgbClr val="1216be"/>
                </a:solidFill>
                <a:latin typeface="Century Schoolbook"/>
              </a:rPr>
              <a:t>in medias res    </a:t>
            </a: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rising action   flash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exposition      connection     loose     flashback   </a:t>
            </a:r>
            <a:r>
              <a:rPr b="1" lang="en-US" sz="2400" spc="-1" strike="noStrike">
                <a:solidFill>
                  <a:srgbClr val="1216be"/>
                </a:solidFill>
                <a:latin typeface="Arial"/>
              </a:rPr>
              <a:t>resolution</a:t>
            </a: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arrative is what happens, while plot is the ____ between even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 traditional story usually has a _____ plot told in chronological ord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ome plots are ____ and leave gaps so that the reader has to figure out the connection between event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 story that begins in the middle of an action is narrated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____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arration of events that happened earlier in time of the main action is a ____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arration of events that happen in the future, is a _____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the _____ of the story, the main characters and setting are introduc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____ of a story is the point of highest action or the final conflict or crisi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_____ of a story is where the conflict is developed through cri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the _____ of a story the consequences of the action or the final outcome is reveal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39d"/>
                </a:solidFill>
                <a:latin typeface="Century Schoolbook"/>
              </a:rPr>
              <a:t>TURN IN YOUR QUIZ</a:t>
            </a:r>
            <a:endParaRPr b="0" lang="en-US" sz="6600" spc="-1" strike="noStrike">
              <a:solidFill>
                <a:srgbClr val="fff39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9"/>
          <p:cNvSpPr/>
          <p:nvPr/>
        </p:nvSpPr>
        <p:spPr>
          <a:xfrm>
            <a:off x="0" y="133200"/>
            <a:ext cx="9144000" cy="553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tight      climax     </a:t>
            </a:r>
            <a:r>
              <a:rPr b="1" i="1" lang="en-US" sz="2400" spc="-1" strike="noStrike">
                <a:solidFill>
                  <a:srgbClr val="1216be"/>
                </a:solidFill>
                <a:latin typeface="Century Schoolbook"/>
              </a:rPr>
              <a:t>in medias res    </a:t>
            </a: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rising action   flash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exposition loose     flashback   </a:t>
            </a:r>
            <a:r>
              <a:rPr b="1" lang="en-US" sz="2400" spc="-1" strike="noStrike">
                <a:solidFill>
                  <a:srgbClr val="1216be"/>
                </a:solidFill>
                <a:latin typeface="Arial"/>
              </a:rPr>
              <a:t>resolution</a:t>
            </a: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ve is what happens, while plot is the ________________ between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raditional story usually has a _________ plot told in chronological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plots are _______ and leave gaps so that the reader has to figure out the connection between ev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ory that begins in the middle of an action is narrat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on of events that happened earlier in time of the main action is a 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"/>
          <p:cNvSpPr/>
          <p:nvPr/>
        </p:nvSpPr>
        <p:spPr>
          <a:xfrm>
            <a:off x="847440" y="159372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6be"/>
                </a:solidFill>
                <a:latin typeface="Arial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3"/>
          <p:cNvSpPr/>
          <p:nvPr/>
        </p:nvSpPr>
        <p:spPr>
          <a:xfrm>
            <a:off x="5490000" y="18558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6be"/>
                </a:solidFill>
                <a:latin typeface="Arial"/>
              </a:rPr>
              <a:t>t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2737440" y="26622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6be"/>
                </a:solidFill>
                <a:latin typeface="Arial"/>
              </a:rPr>
              <a:t>lo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543960" y="37288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216be"/>
                </a:solidFill>
                <a:latin typeface="Arial"/>
              </a:rPr>
              <a:t>In medias 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6"/>
          <p:cNvSpPr/>
          <p:nvPr/>
        </p:nvSpPr>
        <p:spPr>
          <a:xfrm>
            <a:off x="2735280" y="44910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216be"/>
                </a:solidFill>
                <a:latin typeface="Arial"/>
              </a:rPr>
              <a:t>flash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9"/>
          <p:cNvSpPr/>
          <p:nvPr/>
        </p:nvSpPr>
        <p:spPr>
          <a:xfrm>
            <a:off x="0" y="380880"/>
            <a:ext cx="914400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tight      climax     </a:t>
            </a:r>
            <a:r>
              <a:rPr b="1" i="1" lang="en-US" sz="2400" spc="-1" strike="noStrike">
                <a:solidFill>
                  <a:srgbClr val="1216be"/>
                </a:solidFill>
                <a:latin typeface="Century Schoolbook"/>
              </a:rPr>
              <a:t>in medias res    </a:t>
            </a: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rising action   flash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exposition      connection     loose     flashback   </a:t>
            </a:r>
            <a:r>
              <a:rPr b="1" lang="en-US" sz="2400" spc="-1" strike="noStrike">
                <a:solidFill>
                  <a:srgbClr val="1216be"/>
                </a:solidFill>
                <a:latin typeface="Arial"/>
              </a:rPr>
              <a:t>resolution</a:t>
            </a:r>
            <a:r>
              <a:rPr b="1" lang="en-US" sz="2400" spc="-1" strike="noStrike">
                <a:solidFill>
                  <a:srgbClr val="1216be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on of events that happen in the future, is a 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______________ of the story, the main characters and setting are introdu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________ of a story is the point of highest action or the final conflict or cr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_____________ of a story is where the conflict is developed through cr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_________ of a story the consequences of the action or the final outcome is revea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"/>
          <p:cNvSpPr/>
          <p:nvPr/>
        </p:nvSpPr>
        <p:spPr>
          <a:xfrm>
            <a:off x="924840" y="182880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216be"/>
                </a:solidFill>
                <a:latin typeface="Arial"/>
              </a:rPr>
              <a:t>flash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1609200" y="22050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216be"/>
                </a:solidFill>
                <a:latin typeface="Arial"/>
              </a:rPr>
              <a:t>ex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4"/>
          <p:cNvSpPr/>
          <p:nvPr/>
        </p:nvSpPr>
        <p:spPr>
          <a:xfrm>
            <a:off x="997200" y="2890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216be"/>
                </a:solidFill>
                <a:latin typeface="Arial"/>
              </a:rPr>
              <a:t>cli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5"/>
          <p:cNvSpPr/>
          <p:nvPr/>
        </p:nvSpPr>
        <p:spPr>
          <a:xfrm>
            <a:off x="999000" y="36529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216be"/>
                </a:solidFill>
                <a:latin typeface="Arial"/>
              </a:rPr>
              <a:t>rising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6"/>
          <p:cNvSpPr/>
          <p:nvPr/>
        </p:nvSpPr>
        <p:spPr>
          <a:xfrm>
            <a:off x="1379160" y="44146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216be"/>
                </a:solidFill>
                <a:latin typeface="Arial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2:44:02Z</dcterms:created>
  <dc:creator>Preferred User</dc:creator>
  <dc:description/>
  <dc:language>en-US</dc:language>
  <cp:lastModifiedBy>Sally Everson</cp:lastModifiedBy>
  <cp:lastPrinted>2011-06-10T01:05:58Z</cp:lastPrinted>
  <dcterms:modified xsi:type="dcterms:W3CDTF">2011-06-15T03:02:54Z</dcterms:modified>
  <cp:revision>122</cp:revision>
  <dc:subject/>
  <dc:title>QUIZ #1</dc:title>
</cp:coreProperties>
</file>